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.png" ContentType="image/png"/>
  <Override PartName="/ppt/media/image3.png" ContentType="image/png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87EB-226A-48DB-B90D-176C70E62E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with physical descriptions. Transaction-processing or oth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lication-level software might benefit from writing update records in logical terms, however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logically expressed updates are more compact than physically expressed on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ical descriptions necessarily depend on NTFS to understand what operations such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eting a file invol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FS writes update records (usually several) for each of the following transaction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re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Dele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Extend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Truncat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Setting file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Renaming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ing the security applied to a f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redo and undo information in an update record must be carefully designed beca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though NTFS undoes a transaction, recovers from a system failure, or even operates normall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might try to redo a transaction that has already been done or, conversely, to undo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action that never occurred or that has already been undone. Similarly, NTFS might try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o or undo a transaction consisting of several update records, only some of which ar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disk. The format of the update records must ensure that executing redundant redo 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do operations is idempotent, that is, has a neutral effect. For example, setting a bit tha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ready set has no effect, but toggling a bit that has already been toggled does. The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st also handle intermediate volume states correctl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point records In addition to update records, NTFS periodically writes a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 to the log file. A checkpoint record helps NTFS determine what processing would be needed to recover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olume if a crash were to occur immediately. Using information stored in the check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rd, NTFS knows, for example, how far back in the log file it must go to begin its recover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writing a checkpoint record, NTFS stores the LSN of the record in the restart area so th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t can quickly find its most recently written checkpoint record when it begins file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very after a crash occu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Windows boot process doesn’t begin when you power on your computer or pres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button. It begins when you install Windows on your computer. At some point dur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ion of the Windows Setup program, the system’s primary hard disk is prepar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that takes part in the boot process. Before we get into what this code does, let’s look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w and where Windows places the code on a disk. Since the early days of MS-DOS, a stand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existed on x86 systems for the way physical hard disks are divided into volum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crosoft operating systems split hard disks into discrete areas known as partitions and 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 systems (such as FAT and NTFS) to format each partition into a volume. A hard disk 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 up to four primary partitions. Because this apportioning scheme would limit a di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four volumes, a special partition type, called an extended partition, further allocates up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ur additional partitions within each primary partition. Extended partitions can cont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ended partitions, which can contain extended partitions, and so on, making the numb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volumes an operating system can place on a disk effectively infinit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disks are addressed in units known as sectors. A hard disk sector on an IBM-compati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 is typically 512 bytes. Utilities that prepare hard disks for the definition of volu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ing the MS-DOS Fdisk utility or the Windows Setup program, write a sector of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lled a Master Boot Record (MBR) to the first sector on a hard disk. The MBR includes a fixed amount of space that contains execu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s (called boot code) and a table (called a partition table) with four entries that def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locations of the primary partitions on the disk. When an IBM-compatible computer boot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first code it executes is called the BIOS, which is encoded into the computer’s RO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OS selects a boot device, reads that device’s MBR into memory, and transfers contro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de in the MB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MBRs written by Microsoft partitioning tools, such as the one integrated into Window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up and the Disk Management MMC snap-in, go through a similar process of reading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ferring control. First, an MBR’s code scans the primary partition table until it locates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ition containing a flag that signals the partition is bootable. When the MBR finds at le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e such flag, it reads the first sector from the flagged partition into memory and transf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 to code within the partition. This type of partition is called a boot partition,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rst sector of such a partition is called a boot sector. The volume defined for the boot part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alled the system volu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tandard BIOS implementations that x86 hardware uses dictate one requirement of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ing format in Windows—that the first sector of the primary disk contains the Mas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ot Record (MBR). When an x86 processor boots, the computer’s BIOS reads the MBR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eats part of the MBR’s contents as executable code. The BIOS invokes the MBR code to initi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 operating system boot process after the BIOS performs preliminary configura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computer’s hardware. In Microsoft operating systems, including Windows, the MBR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tains a partition table. A partition table consists of four entries that define the locations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 many as four primary partitions on a disk. The partition table also records a partition’s typ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umerous predefined partition types exist, and a partition’s type specifies which file syst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artition includes. For example, partition types exist for FAT32 and NTFS. A special parti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ype, an extended partition, contains another MBR with its own partition table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quivalent of a primary partition in an extended partition is called a logical drive. By us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tended partitions, Microsoft’s operating systems overcome the apparent limit of four part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er disk. In general, the recursion that extended partitions permit can continue indefinitely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hich means that no upper limit exists to the number of possible partitions on a disk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Windows boot process makes evident the distinction between primary and logical driv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system must mark one primary partition of the primary disk as active. The Windows co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 MBR loads the code stored in the first sector of the active partition (the system volum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o memory and then transfers control to that code. Because of the role in the boot proces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layed by this first sector in the primary partition, Windows designates the first sector of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 as the boot sector. Recall from Chapter 4 that every partition formatted with a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ystem has a boot sector that stores information about the structure of the file system on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ition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the disk format in Windows necessary for creating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s such as mirrors, stripes and RAID-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 are partitioned using Logical Disk Manager (LDM) partitioning. The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bsystem in Windows, which consists of user-mode and device driver components, overs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disks. Microsoft licenses LDM from VERITAS Software, which originally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DM technology for UNIX systems. Working closely with Microsoft, VERITAS ported its LD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Windows to provide the operating system with more robust partitioning and multi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ume capabilities. A major difference between LDM’s partitioning and MBR and GPT part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at LDM maintains one unified database that stores partitioning information for 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ynamic disks on a system—including multipartition-volume configur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LDM’s UNIX version incorporates disk groups, in which all the dynamic disks that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assigns to a disk group share a common database. VERITAS’s commercial volume-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 for Windows also includes disk groups, but the Windows LDM imple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only one disk grou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F379-9185-4A7D-A66C-CD65652B84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a single logical volume composed of a maximum of 32 free partition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r more disks. The Windows Disk Management MMC snap-in combines the part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panned volume, which can then be formatted for any of the Windows-supported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. Spanned volumes were called volume sets in Windows NT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anned volume is useful for consolidating small areas of free disk space into one larger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for creating a single, large volume out of two or more small disks. If the spanne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formatted for NTFS, it can be extended to include additional free areas or addi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s without affecting the data already stored on the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5D56-6ADE-42FA-B49C-EAD266E657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0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iped volume is a series of up to 32 partitions, one partition per disk, that gets comb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a single logical volume. Striped volumes are also known as RAID level 0 (RAID-0) volu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partition in a striped volume need not span an entire disk; the only restriction i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tions on each disk be the same siz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file system, this striped volume appears to be a single volume, but a volume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izes data storage and retrieval times on the striped volume by distributing the volume’s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physical disks. The volume manager accesses the physical sectors of the disks a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numbered sequentially in stripes across the di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mirrored volume, the contents of a partition on one disk are duplicated in an equal-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on another disk. Mirrored volumes are sometimes referred to as RAID level 1 (RAID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a program writes to drive C:, the volume manager writes the same data to the sam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mirror partition. If the first disk or any of the data on its C: partition beco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readable because of a hardware or software failure, the volume manager automatic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sses the data from the mirror partition. A mirror volume can be formatted for any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ndows-supported file systems. The file system drivers remain independent and are n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fected by the volume manager’s mirroring ac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rrored volumes can aid in read I/O throughput on heavily loaded systems. When I/O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high, the volume manager balances its read operations between the primary part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the mirror partition (accounting for the number of unfinished I/O requests pending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disk). Two read operations can proceed simultaneously and thus theoretically finish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lf the time. When a file is modified, both partitions of the mirror set must be written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writes are done asynchronously, so the performance of user-mode programs is gener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affected by the extra disk upd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RAID-5 volume is a fault tolerant variant of a regular striped volume. RAID-5 volumes im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D level 5. They are also known as striped volumes with parity because they are bas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striping approach taken by striped volumes. Fault tolerance is achieved by reser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quivalent of one disk for storing parity for each strip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time data is written to a disk, the parity bytes correspo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modified bytes must be recalculated and rewritten. If the parity were always writ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ame disk, that disk would be busy continually and could become an I/O bottleneck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vering a failed disk in a RAID-5 volume relies on a simple arithmetic principle: in an eq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n variables, if you know the value of n – 1 of the variables, you can determine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f the missing variable by subtraction. For example, in the equation x + y = z, wher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resents the parity stripe, the volume manager computes z – y to determine the contents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; to find y, it computes z – x. The volume manager uses similar logic to recover lost data. If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in a RAID-5 volume fails or if data on one disk becomes unreadable, the volume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nstructs the missing data by using the XOR operation (bitwise logical addition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least three disks (or rather, three same-sized partitions on th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s) are required to create a RAID-5 volu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inarily, if a program tries to read data from a bad disk sector, the read operation fai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in the allocated cluster becomes inaccessible. If the disk is formatted as a fault-toler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volume, however, the Windows fault-tolerant driver dynamically retrieves a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of the data that was stored on the bad sector and then sends NTFS a warning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or is bad. NTFS allocates a new cluster, replacing the cluster in which the bad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des, and copies the data to the new cluster. It flags the bad cluster and no longer uses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ata recovery and dynamic bad-cluster remapping is an especially useful feature for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s and fault-tolerant systems or for any application that can’t afford to lose data. If the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r isn’t loaded when a sector goes bad, NTFS still replaces the cluster an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 it, but it can’t recover the data that was on the bad s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ection we discuss the fault-tolerance and availability mechanisms found in Windows Server 2003. On the file-system side, in addition to proper disk management and antivirus protection, Windows Server 2003 provides Distributed File System (DFS), Volume Shadow Copy (VSC), and Remote Storage technolog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system-level fault tolerance, Windows Server 2003 includes the Microsoft Cluster Service (MSCS) and Network Load Balancing (NLB) technologies to provide redundancy and failover capabil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ed File System (DFS) is a service that layers on top of the Workstation service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together file shares into a single namespace. The file shares can reside on the s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uter or on different computers, and DFS provides client access to the resources i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ion-transparent manner. The root of a DFS namespace must be a file share defined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Windows serv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ddition to delivering a unified network-resource namespace, DFS provides other bene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ough DFS replica sets. An administrator can a create DFS replica set from two or m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s and use a replication mechanism such as FRS to copy data between the shares of a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 to keep their contents synchronized. DFS provides several forms of load balancing 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dering and/or selecting members of a replica set to fulfill a client request for data on the repl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t. In addition, DFS achieves high availability by routing requests to the working memb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members of a replica set when a member becomes unavailab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erver-side implementation of DFS consists of a Windows service (\Windows\System32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ssvc.exe) and a device driver (\Windows\System32\Drivers\Dfs.sys). The DFS service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exporting DFS topology management interfaces and maintaining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pology in either the registry (on non–Active Directory systems) or Active Directory. The D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iver performs topology lookups when it receives a client request so that it can direct the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the system where the file it is requesting resid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client side, DFS support is implemented in the MUP driver, described earlier, and u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IFS redirector for its internal communication with DFS servers. The DFS client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implemented in \Windows\System32\Ntlanman.dll. When a client issues a file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that specifies a file in the DFS namespace, the MUP driver on the client commun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target file server by using the appropriate redir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e Replication service (FRS) is included with Windows Server systems. Its primary purpo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to replicate the contents of a domain controller’s \SYSVOL directory, which is where Window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 controllers store logon scripts and group policies. (Group policies perm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ministrators to define usage and security policies for the computers that belong to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.) In addition, FRS can be used to replicate Distributed File System (DFS) shar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tween systems. FRS allows for distributed multimaster replication, which enables a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rver to perform replication activity. When a replicated directory or file is changed,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anges are propagated to the other domain controller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fundamental concept in FRS is a replica set, which consists of two or more systems th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licate between themselves the contents of a directory tree according to an administrativ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ined schedule and topology. Only directories on NTFS volumes can be replicated beca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relies on the NTFS change journal to detect changes to files in directories in a replica se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cause FRS is based on multimaster replication, it can theoretically support hundreds 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n thousands of systems as part of a replica set, and the computers of a replica set can b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 with arbitrary network topologies (such as ring, star, or mesh). Computers can al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 members of multiple replica set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is implemented as a Windows service (\Windows\System32\Ntfrs.exe) that u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uthenticated RPC with encryption to communicate between instances of itself running 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fferent computers. In addition, because Active Directory contains its own replication capabiliti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S uses Active Directory APIs to retrieve FRS configuration information from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main’s Active Director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, which is included with Windows Advanced Server, is based on NDIS intermediate-driver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Load Balancing allows for the creation of a cluster containing up to 32 computers, which are called cluster h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Network Load Balancing. The cluster maintains a single virtual IP address that is pub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access by clients, and client requests go to all the computers in the cluster. However,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cluster host responds to the request. The Network Load Balancing NDIS drivers effective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tition the client space among available cluster hosts in a distributed manner. T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y, each host handles its portion of incoming client requests and every client request al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s handled by one and only one host. The cluster host that determines it should handle a cl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allows the request to propagate up to the TCP/IP protocol driver and eventuall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er application; the other cluster hosts don’t. If a cluster host fails, the rest of the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lizes that the cluster host is no longer a candidate for processing requests and redistribu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coming client requests to the remaining cluster hosts. No new client requests are sent 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owned cluster host. Another cluster host can be added to the cluster as a replacement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it will then seamlessly start handling client reques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Load Balancing isn’t a general-purpose clustering solution because the server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clients communicate with must have certain characteristics: the first is that it m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CP/IP-based, and the second is that it must be able to handle client requests on an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Network Load Balancing cluster. This second requirement typically means that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that must have access to shared state in order to service client requests must ma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red state itself—Network Load Balancing doesn’t include services for automat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ng shared state across cluster hosts. Applications that are ideally suited for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Balancing include a Web server that serves static content, Windows Media Server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l Serv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FE28-BAA2-42CE-BE17-2EF8BBD4A0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820800" y="703440"/>
            <a:ext cx="5624280" cy="4217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96960" y="5342040"/>
            <a:ext cx="5888160" cy="33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writes several types of records to its transaction log. Two types, update records and checkpoint records, are described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records Update records are the most common type of record NTFS writes to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 file. Each update record contains two kinds of inform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do information How to reapply one suboperation of a fully logged (“committed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 to the volume if a system failure occurs before the transaction is flus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ndo information How to reverse one suboperation of a transaction that was only parti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d (“not committed”) at the time of a system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recovering after a system failure, NTFS reads through the log file and redoes each com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. Although NTFS completed the committed transactions before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, it doesn’t know whether the cache manager flushed the volume modifications to 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ime. The updates might have been lost from the cache when the system failed.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TFS executes the committed transactions again just to be sure that the disk is up to 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redoing the committed transactions during a file system recovery, NTFS locates all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 in the log file that weren’t committed at failure and rolls back (undoes) each sub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had been logg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3509-3975-4A6A-9B35-EC4E74E23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41CD-518C-4956-A3F3-8BBE86F7D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B7E5-F700-4C42-81E6-87DA813F1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4AB02-FA52-4050-9ECA-0B5EE140C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395B9-5629-4785-8C6C-1CF4D3793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2540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29120"/>
            <a:ext cx="264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4C49C-77D2-48CD-96F8-C0A110FB9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487DB-9F36-4A4A-B7E6-E79DF9976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CF28-8A35-4941-AB75-E679BB853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20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F575-610F-44B9-8330-6761BBEC72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48AAE-BF32-459B-A1BE-697E43F86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2912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C91C-7EED-4B3C-ABE2-3DE3DEF5D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25400"/>
            <a:ext cx="40158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29120"/>
            <a:ext cx="8229600" cy="21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0DD9-402E-4D7E-931A-B4EC698286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075040" indent="-27648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602080" indent="-266760">
              <a:spcBef>
                <a:spcPts val="700"/>
              </a:spcBef>
              <a:spcAft>
                <a:spcPts val="7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76312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806A-6DCD-42CE-A2E3-62AD2E20FE40}" type="slidenum">
              <a:rPr b="0" lang="en-US" sz="1200" spc="-1" strike="noStrike">
                <a:solidFill>
                  <a:srgbClr val="fe99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609120" y="6629040"/>
            <a:ext cx="7543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e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e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343080" algn="ctr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42696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5065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506520">
              <a:spcBef>
                <a:spcPts val="451"/>
              </a:spcBef>
              <a:buClr>
                <a:srgbClr val="ffffff"/>
              </a:buClr>
              <a:buSzPct val="11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docx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93400" y="2282760"/>
            <a:ext cx="7216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nit OS10: Fault Toleranc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91960" y="4006800"/>
            <a:ext cx="7197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Windows Operating System Internals - by David A. Solomon and Mark E. Russinovich with Andreas Polz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ass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forward in log file from beginning of last check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s transaction/dirty page tables it copied in mem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scans tables for oldest update record of a non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it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 tra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looks for “page update“ records which contain volume modification that might not have been flushed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does these updates in the cache until it reaches end of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che manager “lazy writer thread“ begins to flush cache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 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ll back any transactions that were not committed when system fail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ter undo pass – volume is at consistent st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empty LFS restart area; no recovery is needed if system fails n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CD01-9DF3-49D6-9EA1-484B451491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66680" y="48006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4495680"/>
            <a:ext cx="1447920" cy="381240"/>
          </a:xfrm>
          <a:prstGeom prst="rect">
            <a:avLst/>
          </a:prstGeom>
          <a:solidFill>
            <a:srgbClr val="99ff66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Undo Pass - Example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44953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committed before power fail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Transaction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still act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ust log undo operations in log fil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might fail again during recovery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ould have to redo its undo oper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133720"/>
            <a:ext cx="106704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2133720"/>
            <a:ext cx="106668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2133720"/>
            <a:ext cx="1066680" cy="609480"/>
          </a:xfrm>
          <a:prstGeom prst="rect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244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2133720"/>
            <a:ext cx="106704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LSN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4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057400"/>
            <a:ext cx="876312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447920" y="2438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5146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14600" y="312408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257800" y="274320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29718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858000" y="274284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391520" y="2438280"/>
            <a:ext cx="304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71400" y="1523880"/>
            <a:ext cx="29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action committed“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1828440"/>
            <a:ext cx="759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5000" y="3886200"/>
            <a:ext cx="40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llocate/Initialize an MFT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Deallocate the file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90160" y="3276720"/>
            <a:ext cx="40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Add the filename to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Remove the filename from the ind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18960" y="3886200"/>
            <a:ext cx="32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Set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: Clear bits 3-9 in the bit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8229600" y="274284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248520" y="2743200"/>
            <a:ext cx="3045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666880" y="2742840"/>
            <a:ext cx="91440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1066680"/>
            <a:ext cx="1371600" cy="121932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Power</a:t>
            </a:r>
            <a:br>
              <a:rPr sz="1600"/>
            </a:b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fail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C91A-F7E2-4796-8E54-C68C1A8365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TFS Recovery - Conclusion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very will return volume to some preexisting consistent state (not necessarily state before cras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zy commit algorithm: log file is not immediately flushed when a „transaction committed“ record is writ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Service batches record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lush when cache manager calls or check pointing record is written (once every 5 sec); also when log is 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parallel transactions might have been active before cr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file mechanisms for error hand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t I/O errors are not file system err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might create MFT record and detect that disk is full when allocating space for a file in the bitm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566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uses log info to undo changes and returns „disk full“ error to ca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5E25-374A-4E9B-9AD9-7EEBD70741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ce Support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using multiple disk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‘ capabilities are enhanced by the fault-tolerant 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lume manage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es above hard disk drivers in the I/O system‘s layered driver sche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tDisk – for bas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DMIO – for dynamic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management capabilities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ndant data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data recovery from bad sectors o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itself implements bad-sector recover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n-SCSI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0B8E-8435-4ABD-AC0B-C03B3F7472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s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a physical storage device such as a hard disk, a 3.5-inch floppy disk, or a CD-R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disk is divided into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tors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dressable blocks of fixed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tor sizes are determined by hardwa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current x86-processor hard disk sectors are 512 bytes, and CD-ROM sectors are typically 2048 by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ture x86 systems might support larger hard disk sector siz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collections of contiguous sectors on a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ti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 other disk-management database stores a partition's starting sector, size, and other character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imple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a single partition that file system drivers manage as a singl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rtition volum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e objects that represent sectors from multiple partitions and that file system drivers manage as a single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8080" indent="-21924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volumes offer performance, reliability, and sizing features that simple volumes do n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D30D-497B-42E9-928D-02416BF82A5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vs Dynamic Dis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disk partitioning schemes used by Wind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disks rely on MS-DOS-style disk partitio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ally Windows legacy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information for each disk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tipartition information not stored on dis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be lost when disk moved, OS reinstall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ynamic disks implement a more flexible partitioning sch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guration of multipartition volumes is on disk and mirrored across the dynamic disks of the same computer. This allows for easy migration and minimizes chances of disk configuration los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advantage is that partitioning is not understood by other OS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756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ptops only support basic disk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sually only disk and disks not remov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5680" indent="-2656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disks are basic disks unless created new as dynamic disks or conve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3566F-8002-48A3-9AA7-0C0DBDD848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disk has a sector called a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aster Boot Record (MBR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s its first sector, that defines the first level of partitioning with i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partition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98680" y="2514600"/>
            <a:ext cx="838080" cy="6858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98680" y="32004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98680" y="3427560"/>
            <a:ext cx="838080" cy="22860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498680" y="36576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98680" y="3886200"/>
            <a:ext cx="838080" cy="2286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51320" y="25750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3124080"/>
            <a:ext cx="2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00680" y="32767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io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93960" y="3200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93960" y="4114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4624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946240" y="32004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648320"/>
            <a:ext cx="152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4648320"/>
            <a:ext cx="1219320" cy="609480"/>
          </a:xfrm>
          <a:prstGeom prst="rect">
            <a:avLst/>
          </a:prstGeom>
          <a:solidFill>
            <a:srgbClr val="99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Arial"/>
              </a:rPr>
              <a:t>Boot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4648320"/>
            <a:ext cx="152280" cy="60948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70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6252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648320"/>
            <a:ext cx="53316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4648320"/>
            <a:ext cx="5335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648320"/>
            <a:ext cx="152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53080" y="4648320"/>
            <a:ext cx="1219320" cy="6094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909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2400" y="5410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5562720"/>
            <a:ext cx="655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086600" y="5562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49360" y="577548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2096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4880" y="5791320"/>
            <a:ext cx="114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3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extend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54880" y="579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 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4343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67080" y="4343400"/>
            <a:ext cx="2133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34120" y="4191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268880" y="358128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tions within an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219320" y="41148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66680" y="2514240"/>
            <a:ext cx="38124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2590920"/>
            <a:ext cx="228600" cy="22860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2514600"/>
            <a:ext cx="2133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B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s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9718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72200" y="3352680"/>
            <a:ext cx="228600" cy="228600"/>
          </a:xfrm>
          <a:prstGeom prst="rect">
            <a:avLst/>
          </a:prstGeom>
          <a:solidFill>
            <a:srgbClr val="e386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9E00-ACE4-4C3D-ACF0-7DCE79E00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s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MBR describes up to 4 primary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irst record of each primary partition i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oot reco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primary partition can be marked “bootable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partition has a partition type (FAT, FAT32, NTFS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overcome a 4-partition limit, a basic disks define a special type of partition called 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extended par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subdisk, complete with its own M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NT 4, configuration for multipartition volumes is stored in the Registry’s HKLM\System\Disk subke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of system is reinstalled or disk is moved to anothe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1341-0663-4C92-8C7B-46321A43E7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Disk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ynamic disk partitioning scheme is defined by a component called Logical Disk Manager (LD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consists of a service and driver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ynamic disk partitioning scheme was co-developed with Veritas Software, porting LDM from UNIX implemen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DM maintains one unified database that stores all partitioning information, for all disks in the syste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also stores multipartition configu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43800">
              <a:spcBef>
                <a:spcPts val="400"/>
              </a:spcBef>
              <a:spcAft>
                <a:spcPts val="400"/>
              </a:spcAft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base occupies last 1 MB of each dynamic disk, and is mirrored across a system’s dynamic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1400" indent="-256320">
              <a:spcBef>
                <a:spcPts val="349"/>
              </a:spcBef>
              <a:spcAft>
                <a:spcPts val="349"/>
              </a:spcAft>
              <a:buSzPct val="113071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eritas offers add-on software that allow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ynamic disks to be managed in subs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disk group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5486400"/>
            <a:ext cx="152280" cy="533520"/>
          </a:xfrm>
          <a:prstGeom prst="rect">
            <a:avLst/>
          </a:prstGeom>
          <a:solidFill>
            <a:srgbClr val="fe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43400" y="5486400"/>
            <a:ext cx="266688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10280" y="5486400"/>
            <a:ext cx="53352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54480" y="5880240"/>
            <a:ext cx="8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ste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o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52800" y="64008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partition are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624852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84560" y="6400800"/>
            <a:ext cx="150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DM 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1028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52578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10280" y="525780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6120" y="48769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 M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6095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62520" y="601956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18A31-EAF1-4C75-B7B7-29D5CD005D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ynamic Partition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omputer’s boot and system disks have  a mix of dynamic and basic disk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LDR only understands basic-disk partitio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partitions are calle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ft parti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ereas basic-disk partitions ar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ard part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en on “pure” dynamic disks, the MBR contains a basic-disk partition table that defines the entire usable area of the disk as a single hard partition of type LD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DM manages the space within the LDM partition in its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18E5-C3BC-4073-919B-EE0DAA0038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opyright Notice</a:t>
            </a:r>
            <a:br>
              <a:rPr sz="4000"/>
            </a:br>
            <a:r>
              <a:rPr b="0" lang="en-US" sz="1800" spc="-1" strike="noStrike">
                <a:solidFill>
                  <a:srgbClr val="fe9900"/>
                </a:solidFill>
                <a:latin typeface="Arial"/>
              </a:rPr>
              <a:t>© 2000-2005 David A. Solomon and Mark Russinovich</a:t>
            </a:r>
            <a:endParaRPr b="0" lang="en-US" sz="18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materials are part of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ndows Operating System Internals Curriculum Development Kit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veloped by David A. Solomon and Mark E. Russinovich with Andreas Pol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has licensed these materials from David Solomon Expert Seminars, Inc. for distribution to academic organizations solely for use in academic environments (and not for commercial u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B8E66-8426-49F6-A3AC-A7A5C8A2B3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ultipartition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ltipartition volumes available in Windows a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nn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rrored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ped-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-5 volu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artitions that make up new multipartition volumes must be on dynamic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preserves NT 4 multipartition volumes on basic disks during an upgr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F21E-5CC9-41FC-9A9B-2F66D9D0F7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Volume Management Features –</a:t>
            </a:r>
            <a:br>
              <a:rPr sz="4000"/>
            </a:b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Spann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3657240"/>
            <a:ext cx="82296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anne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ngle logical volume composed of a maximum of 32 areas of free space on one or more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volume sets can be dynamically increased in siz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ly bitmap file which stores allocation status needs to be extend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ide physical configuration of disks from fil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ol: Windows 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k Management MMC snap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panned volumes were called volume sets in Windows NT 4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3200400" y="2133720"/>
            <a:ext cx="609480" cy="1143000"/>
            <a:chOff x="3200400" y="2133720"/>
            <a:chExt cx="609480" cy="1143000"/>
          </a:xfrm>
        </p:grpSpPr>
        <p:sp>
          <p:nvSpPr>
            <p:cNvPr id="233" name=""/>
            <p:cNvSpPr/>
            <p:nvPr/>
          </p:nvSpPr>
          <p:spPr>
            <a:xfrm>
              <a:off x="3200400" y="30481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667240"/>
              <a:ext cx="609480" cy="533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0400" y="25909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210040"/>
              <a:ext cx="609480" cy="45720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99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133720"/>
              <a:ext cx="609480" cy="2286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2004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029200" y="2133720"/>
            <a:ext cx="609480" cy="1143000"/>
            <a:chOff x="5029200" y="2133720"/>
            <a:chExt cx="609480" cy="1143000"/>
          </a:xfrm>
        </p:grpSpPr>
        <p:sp>
          <p:nvSpPr>
            <p:cNvPr id="241" name=""/>
            <p:cNvSpPr/>
            <p:nvPr/>
          </p:nvSpPr>
          <p:spPr>
            <a:xfrm>
              <a:off x="5029200" y="3048120"/>
              <a:ext cx="609480" cy="228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29200" y="2667240"/>
              <a:ext cx="609480" cy="533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29200" y="25909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29200" y="2210040"/>
              <a:ext cx="60948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29200" y="2133720"/>
              <a:ext cx="60948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2920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2210040"/>
              <a:ext cx="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135880" y="213372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64680" y="27432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4680" y="205740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35880" y="2666880"/>
            <a:ext cx="101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401880" y="2133720"/>
            <a:ext cx="159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olume set D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ccupies half of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wo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9FD6-9252-4B17-9E31-0FDEC1201E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tripe</a:t>
            </a: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d Volumes (RAID-0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335232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es of partitions, one partition per disk (of same si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bined into a single logical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ptimize data storage and retrieval ti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s are narrow: 64K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tends to be distributed evenly among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ltiple pending read/write ops. will operate on different d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tency for disk I/O is often reduced (parallel seek oper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9092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9092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2670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670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670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670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2819520"/>
            <a:ext cx="914400" cy="304560"/>
          </a:xfrm>
          <a:prstGeom prst="can">
            <a:avLst>
              <a:gd name="adj" fmla="val 500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2666880"/>
            <a:ext cx="914400" cy="304920"/>
          </a:xfrm>
          <a:prstGeom prst="can">
            <a:avLst>
              <a:gd name="adj" fmla="val 50000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2514600"/>
            <a:ext cx="914400" cy="304920"/>
          </a:xfrm>
          <a:prstGeom prst="can">
            <a:avLst>
              <a:gd name="adj" fmla="val 50000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2362320"/>
            <a:ext cx="914400" cy="304560"/>
          </a:xfrm>
          <a:prstGeom prst="can">
            <a:avLst>
              <a:gd name="adj" fmla="val 50000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2209680"/>
            <a:ext cx="914400" cy="304920"/>
          </a:xfrm>
          <a:prstGeom prst="can">
            <a:avLst>
              <a:gd name="adj" fmla="val 50000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2057400"/>
            <a:ext cx="914400" cy="304920"/>
          </a:xfrm>
          <a:prstGeom prst="can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1676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1932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3480" y="175248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150 M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96064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24200" y="2168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960640" y="2324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49960" y="2171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9CF0-4C07-41AA-826E-08A983F304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Tolerant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mplement redundant storage sche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rror sets (RAID-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ipe sets with parity (RAID-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tor spa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26720" indent="-1267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ol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 Windows Disk Management MMC snap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rrored Volum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267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ents of a partition on one disk are duplicated on another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451"/>
              </a:spcBef>
              <a:spcAft>
                <a:spcPts val="451"/>
              </a:spcAft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tDisk/DMIO write same data to both lo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74680" indent="-105480">
              <a:spcBef>
                <a:spcPts val="349"/>
              </a:spcBef>
              <a:spcAft>
                <a:spcPts val="349"/>
              </a:spcAft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perations are done simultaneously on both disk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load balancing)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5760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5760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39040" y="42670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39040" y="39625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2624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33720" y="4419720"/>
            <a:ext cx="8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mirro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5DD08-D271-4CA0-A90E-6377131A9B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irrored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mprovement because reads of different data can occur in parallel through dynamic load balanc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667560" cy="482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C6FF-1AB5-44AF-A7ED-E9B2F22AB0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e9900"/>
                </a:solidFill>
                <a:latin typeface="Arial"/>
              </a:rPr>
              <a:t>RAID-5 Volum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 tolerant version of a regular strip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: logical sum (X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ity info is distributed evenly over available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construct missing data by using XOR 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19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19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19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7200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5812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32767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48520" y="29718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2666880"/>
            <a:ext cx="914400" cy="533520"/>
          </a:xfrm>
          <a:prstGeom prst="can">
            <a:avLst>
              <a:gd name="adj" fmla="val 4166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48520" y="2362320"/>
            <a:ext cx="914400" cy="53316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2057400"/>
            <a:ext cx="914400" cy="533520"/>
          </a:xfrm>
          <a:prstGeom prst="can">
            <a:avLst>
              <a:gd name="adj" fmla="val 41666"/>
            </a:avLst>
          </a:prstGeom>
          <a:solidFill>
            <a:srgbClr val="cc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2514600"/>
            <a:ext cx="60948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8480" y="271152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par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B7D08-FBF1-4D14-B7D1-2C05EB45A6D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Disk Management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MC Snapi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95280" y="1676520"/>
          <a:ext cx="655344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55344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5A193-36CD-46B3-AB84-416BCC6DCA1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The Volume Manag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50418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DM Volume Manager inserts itself above disk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s “volumes” to file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volume-oriented requests and can create sub-requests aimed at different disks of multipartition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00720" y="1341360"/>
          <a:ext cx="3544920" cy="5112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00720" y="1341360"/>
                    <a:ext cx="35449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DFA8-B74E-4E3A-B319-92E9CC42709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 Cluster Recover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sparing is supported by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ynamic copying of recovered data to spare sec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out intervention from file system /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s for certain SCSI di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turn bad sector warning to NT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or re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is supported by NT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ot reuse bad clu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copies data recovered by FtDisk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/DM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to a new clu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cannot recover data from bad sector without help from FtDisk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/DM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TFS will never write to bad sector (re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p before wri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FF30-3C54-49FB-AF56-D50F087B09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Bad-cluster re-mapp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669760" y="32288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92880" y="322884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2200" y="322884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36120" y="322884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353376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14600" y="353376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353376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3533760"/>
            <a:ext cx="2895480" cy="16765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5454720"/>
            <a:ext cx="1143000" cy="30456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43360" y="429588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5715000" y="3533760"/>
          <a:ext cx="3048120" cy="1800360"/>
        </p:xfrm>
        <a:graphic>
          <a:graphicData uri="http://schemas.openxmlformats.org/drawingml/2006/table">
            <a:tbl>
              <a:tblPr/>
              <a:tblGrid>
                <a:gridCol w="892080"/>
                <a:gridCol w="892440"/>
                <a:gridCol w="12636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0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58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1677960" y="5133960"/>
            <a:ext cx="143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3800" y="5759280"/>
            <a:ext cx="189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6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89548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429000" y="543888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156360" y="5759280"/>
            <a:ext cx="228600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548320" y="5438880"/>
            <a:ext cx="257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64880" y="6140520"/>
            <a:ext cx="291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89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65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729936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908840" y="5743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90760" y="42958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276720" y="4295880"/>
            <a:ext cx="91440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05160" y="505764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05764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58960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191120" y="5819760"/>
            <a:ext cx="53316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11320" y="55148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88360" y="612468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952520" y="460044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648320" y="4600440"/>
            <a:ext cx="304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69760" y="152388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TFS file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992880" y="1523880"/>
            <a:ext cx="13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192200" y="1523880"/>
            <a:ext cx="14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urity des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36120" y="15238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8080" y="1828800"/>
            <a:ext cx="1676520" cy="533520"/>
          </a:xfrm>
          <a:prstGeom prst="rect">
            <a:avLst/>
          </a:prstGeom>
          <a:solidFill>
            <a:srgbClr val="cc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14600" y="1828800"/>
            <a:ext cx="167652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91120" y="1828800"/>
            <a:ext cx="1523880" cy="53352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5791320" y="1828800"/>
          <a:ext cx="2971440" cy="1017720"/>
        </p:xfrm>
        <a:graphic>
          <a:graphicData uri="http://schemas.openxmlformats.org/drawingml/2006/table">
            <a:tbl>
              <a:tblPr/>
              <a:tblGrid>
                <a:gridCol w="893520"/>
                <a:gridCol w="893520"/>
                <a:gridCol w="118440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V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Starting LC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Number of clu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35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362" name=""/>
          <p:cNvSpPr/>
          <p:nvPr/>
        </p:nvSpPr>
        <p:spPr>
          <a:xfrm>
            <a:off x="4267080" y="2635200"/>
            <a:ext cx="533520" cy="30492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B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87640" y="2330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964680" y="2940120"/>
            <a:ext cx="120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C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5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800600" y="2590920"/>
            <a:ext cx="914400" cy="196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4952-A127-4E08-B5E8-EE0D648F51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oadmap for Section 10.1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tion of Fault-Tole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Support in NTF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Management -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ped and Spanned Volu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 (F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Load Balancing (NL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Clustering (MS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9E11-F397-4D33-872E-0C571E5C82B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istributed File System (DFS)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Data Replication for high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trategic storage management solu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mespac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simplified views of folders regardless of where those files physically reside in a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amespace abstracts away file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of a file server’s name does not break virtual DFS path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tores path names logically as a single name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ed file servers for high avail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4B4D-055C-400D-8C78-9DF0D4EA300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ow DFS Work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nd a server compon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y Windows system can be a DFS cli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NT/2000/2003 Server include DFS server compon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1120" indent="-321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iew of shared folders on different servers is called the DFS name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ke a virtual UNC pa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88480" indent="-32580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single namespa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map to phys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urces resid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multiple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038480" y="3276720"/>
          <a:ext cx="4843440" cy="30366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276720"/>
                    <a:ext cx="484344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1EB7D-149E-4AF3-869F-533D3A8E94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Oper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96280" indent="-29628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operates in multiple st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request of the DFS namespac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returns the appropriate path to the data (including Active Directory site-costing information when AD is in u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9360" indent="-3002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11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makes a connection to the server and sh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438280" y="3276720"/>
          <a:ext cx="4564080" cy="3405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3276720"/>
                    <a:ext cx="456408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F90B-7803-49A3-B22D-83D60D2B98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Authent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is a multi-protocol architectu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SMB and LAN Manager authentication protocols to communicate between a DFS client and a DFS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server can redirect requests to various types of shares protocol-specific authent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Message Block (SMB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File System (NFS)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 for Macintosh™ (AFP) servers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60560" indent="-4478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are™ Core Protocol (NCP) serv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client machines must install suitable redirect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46753-A336-493E-BADC-3630840F50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DFS Request Routing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for replicated server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s/Folders on a DFS server can be replicated using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solves file and folder name conflicts to make data consistent among the replica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uses “last writer wins” rule to resolve confli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requests are then routed to the closest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 server becomes unavailable, DFS ensures that requests are routed to the next closest server by using site-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Directory site and costing information will be used for routing deci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.e.; whether sites are connected via inexpensive, high-speed links or by expensive WAN link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0456B-B6C9-4392-9E4B-EBC6248DD2F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ile Replication Service 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FRS) Details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re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ject to replication schedule, server load, and network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 file or folder is changed and closed, FRS begins replicating within three secon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t replication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ult-tolerant distribution by way of multiple connection paths between me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entical file data is sent no more than once to any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E778-82BE-41DE-8E3D-A1163AE258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RS Details (contd.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be scheduled to occur at specified times and duratio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licating data during off-hours may free up network bandwidth for other u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 are replicated only after they have been changed and cl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relies on the update sequence number (USN) journal to log records of files that have changed on a replica memb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S does not lose track of a changed file even if a replica member shuts down abrup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8B73B-1AC2-424B-A8F2-A96C7B19293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MT"/>
              </a:rPr>
              <a:t>Distributed File System Solution in Microsoft Windows Server 2003 R2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5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 Replication is a new state-based, multimaster replication eng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s replication scheduling and bandwidth thrott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compression protocol called Remote Differential Compression (RD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ows to efficiently update files over a limited-bandwidth network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DC detects insertions, removals, and re-arrangements of data in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35320" indent="-253440">
              <a:spcBef>
                <a:spcPts val="451"/>
              </a:spcBef>
              <a:spcAft>
                <a:spcPts val="451"/>
              </a:spcAft>
              <a:buSzPct val="12575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DC replicates only the changes when files are upd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-file RDC can help reduce the amount of bandwidth required to replicate new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tantial improvements over File Replication Service (F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6C88-2221-4BA2-B112-932E12ED9B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Increased Availability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with DFS and FRS 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FS may pointing to multiple volumes that can be alternates for each 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FS manages failover to alternate 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copies of read-only shares can be mounted under the same logical DFS name (re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ccesses to DFS volumes are evenly distributed across multiple alternate network sha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S and DFS replication (in Server 2003 R2) can be used to maintain consistency among replicated volu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FBFBC-16E0-404D-8A1D-38B44ACB1BC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etwork Load Balancing (NLB)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ustering technology for stateless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of all Windows 2000 Server and Windows Server 2003 family operat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s a distributed algorithm to load balance network traffic across a number of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ping to enhance the scalability and availability of mission critical, IP-based service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0160" indent="-27000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, Virtual Private Networking, Streaming Media, Terminal Services, Proxy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0972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availability by detecting host failures and redistributing traffic to operational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AB12B-27BC-467C-9B5B-1C19279C09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t System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the property of a system that continues operating properly in the event of failure of some of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ts operating quality decreases at all, the decrease is proportional to the severity of the fail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ult-tolerance is particularly sought-after in high-availability or life-critical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ult-tolerance is not just a property of individual machines; it may also characterize the rules by which they inter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5148-F107-49D6-A709-6E92693B97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versus 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25400"/>
            <a:ext cx="84582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rver cluster (MSCS) is a collection of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 single, highly availabl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can be failed over (SQL Server, Exchange Server data stores, file and print server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S clusters are used for statefu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120" indent="-339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LB clusters distribute network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clusters provide a highly available and scalable platform for applications such as IIS, ISA server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37800" indent="-3438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LB is used for stateless applications; i.e. those that do not build any state as a result of a reque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B1127-F8BC-4DDF-94F9-2DD9FC301E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for High Availability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Does NLB Detect a Server Fail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NLB Cluster host emits heartbea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o remove a failed host from the clust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default, five seconds are required to detect a failed h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ergence process takes three seconds to evict the failed host and redistribute its 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27498-0D08-4678-894E-A48BC67C570C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Load Balancing Algorithm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lly distributed filtering algorithm to map incoming clients to the cluster h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hosts simultaneously inspect arriving packets and determine which host should handle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domization function determines destination and calculates a host priority based on IP address, port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ination host forwards the packet to the TCP/IP network st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cluster hosts discard the pack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520" indent="-335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pping remains unchanged unless the membership of cluster hosts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iven clients IP address and port will always map to the same cluster h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28080" indent="-340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ent affinity settings modify statistical mapping algorithm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97E9D-47FC-4AD8-8718-0DF9C909748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NLB Implementation and Overhead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has a kernel component called wlbs.s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n intermediate NDIS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LB also has user-mode management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creates additional CPU 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 linearly with increased throughput on network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6"/>
          <a:stretch/>
        </p:blipFill>
        <p:spPr>
          <a:xfrm>
            <a:off x="2133720" y="3657600"/>
            <a:ext cx="4527360" cy="289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A84ED-5D4B-4230-AB49-47226ECA84F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(Windows Server 2003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ing technology for stateful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dramatically improved version of the Microsoft Cluster Service (MSCS) compon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7120" indent="-269640"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SCS was included with Windows 2000 Advanced Server and Windows 2000 Datacenter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tween two and eight servers that will act as nodes in the clu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resource include network names, IP addresses, applications, services, and disk dr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15A3-4092-48A2-BBF1-E4382287B8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 Operation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single quorum)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des in a cluster use a quorum to track which node owns a clustered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is the storage device controlled by the primary node for a clustered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ly one node at a time may ow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ailover, the backup node takes ownership of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quorum may be created on the storage device attached to all nodes (single quorum device server clus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2362320" y="4495680"/>
          <a:ext cx="4952880" cy="22878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2320" y="4495680"/>
                    <a:ext cx="495288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EA97F-784C-4B08-9A91-31D67675B83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Majority node set (MNS) </a:t>
            </a:r>
            <a:br>
              <a:rPr sz="4000"/>
            </a:b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erver cluster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orum stored on a locally attached storage device connected to each of the cluster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up node must have a copy of the data stored within the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handles this requirement by replicating quorum data across th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can be a LAN, WAN, or VP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09680" y="4419720"/>
          <a:ext cx="5181840" cy="23050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419720"/>
                    <a:ext cx="51818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7BB0-E169-4250-BD00-3920D5AEEAF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Availability of a Server Cluster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ffectively fail over between nodes, majority node set clusters must have at least three no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than half of the cluster nodes must be active at all 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.e.; in a cluster with three nodes, two of them must be active for the cluster to be 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ight node clusters must have five nodes active to remain 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quorum device server clusters require that only a single node continues to func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0BCE-FD0E-4B0E-B23D-8A86A88D734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Hardware and Software Failur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led disks, memory, processors, power, and network equipment are all common sources of unplanned dow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and NLB can be used to provide availability in the event of a failure of a processor, memory chip, power supply, or other hardware compon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s provide availability at many other lay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provide complete redundancy, all layers of your application must be cluste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LB provides availability and scalability for the firewalls, front-end servers, and application server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er Cluster provides high availability for the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3BE0-BCD6-4354-BF2A-3AD602491FA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Clustered Application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the bigger picture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533520" y="1523880"/>
          <a:ext cx="8229600" cy="50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229600" cy="50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17EB7-A49C-4544-BFDB-092519445E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 Models and Protocol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specify Fault Model when discussing fault-tolerant (FT)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FT mechanisms in Windows are dealing with crash faults of computers or applications on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ash faults can be handled by replication in space o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09480" y="2662200"/>
            <a:ext cx="822960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B0792-D491-4F9B-BFC4-177FF3A97F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urther Reading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 E. Russinovich and David A. Solom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crosoft Windows Internals, 4th Edition, Microsoft Press, 2004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2 - File Syste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Recovery Support (from pp. 7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3 - Network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Load Balancing and File Replication Service (from pp. 841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pter 10 - Storage Management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ume Management (from pp. 62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ibuted File System (DFS) and File Replication Services (F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nologies/storage/dfs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Load Balancing (NLB) for Windows 2000 and Windows Server 200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technet/prodtechnol/windowsserver2003/technologies/clustering/nlbfaq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7520" indent="-317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5823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ndows Server 2003 Clus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78760" indent="-322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microsoft.com/windowsserver2003/techinfo/overview/bdmtdm/default.msp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BFE5-2C89-467B-BCD7-3A08D32116C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Source Code Referenc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ows Research Kernel (WRK) 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\base\ntos\fstub – partition table/MBR support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e: the other topics covered in this unit are not included with the W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55BF4-93C0-495F-970A-20033BD6796D}" type="slidenum">
              <a:t>51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(FT) by duplication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540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approaches toward FT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c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ing tasks or requests to all of them in parallel, and choosing the correct result on the basis of a quor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undanc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il-over among multiple identical system instanc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ll-back or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8000" indent="-3366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3173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ersity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different implementations of the same sp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420200" indent="-2505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131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m like replicated systems to cope with errors in a specific imple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5F2D-87E3-4C83-AA4A-5DA07D15D7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Fault-tolerance in NTFS -</a:t>
            </a:r>
            <a:br>
              <a:rPr sz="4000"/>
            </a:br>
            <a:r>
              <a:rPr b="0" lang="en-US" sz="3600" spc="-1" strike="noStrike">
                <a:solidFill>
                  <a:srgbClr val="fe9900"/>
                </a:solidFill>
                <a:latin typeface="Arial"/>
              </a:rPr>
              <a:t>Increasing System Availability</a:t>
            </a:r>
            <a:endParaRPr b="0" lang="en-US" sz="36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tion-based logging sch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, even for large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very is limited to file system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transaction processing like SQL server for user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off: performance versus fully fault-tolerant File System (F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 options for file I/O &amp; cac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eful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VAX/VMS FS, other proprietary OS F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362160"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zy wri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most UNIX FS, OS/2 HPF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A6B3-66A3-43BC-A961-C7AE5C5FCD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able File System</a:t>
            </a:r>
            <a:br>
              <a:rPr sz="4000"/>
            </a:br>
            <a:r>
              <a:rPr b="0" lang="en-US" sz="3200" spc="-1" strike="noStrike">
                <a:solidFill>
                  <a:srgbClr val="fe9900"/>
                </a:solidFill>
                <a:latin typeface="Arial"/>
              </a:rPr>
              <a:t>(Journaling File System)</a:t>
            </a:r>
            <a:endParaRPr b="0" lang="en-US" sz="32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fety of careful write FS / performance of lazy write 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g file + fast recovery proced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 file imposes some over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ation over lazy write: distance between cache flushes increa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9920" indent="-349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3189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TFS support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write-thro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che flus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riggered by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extra disk I/O to update FS data structures necessary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changes to FS structure are recorded in log file which can be written in a single ope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35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SzPct val="135775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the future, NTFS may support logging for user files (hooks in pla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75EA9-B976-45FE-AFAB-5C786A95BB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9900"/>
                </a:solidFill>
                <a:latin typeface="Arial"/>
              </a:rPr>
              <a:t>Recovery - Principles</a:t>
            </a:r>
            <a:endParaRPr b="0" lang="en-US" sz="4000" spc="-1" strike="noStrike">
              <a:solidFill>
                <a:srgbClr val="fe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performs automatic reco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ed on update records and checkpoints in Log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date records store sub operations that change File System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FS writes checkpoint every 5 s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s copy of transaction table and dirty page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point includes LSNs of the log records containing the tabl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;</a:t>
            </a:r>
            <a:br>
              <a:rPr sz="16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ly a series of records - interleaved with update recor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3520" indent="-3535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7592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 depends on two NTFS in-memory tab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ansaction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keeps track of active transactions (not completed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ub operations of these transactions must be removed from dis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7400" indent="-3582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095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ty page tabl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records which pages in cache contain modifications to file system structure that have not yet been written to d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5530680"/>
            <a:ext cx="7924680" cy="609840"/>
          </a:xfrm>
          <a:prstGeom prst="rect">
            <a:avLst/>
          </a:prstGeom>
          <a:solidFill>
            <a:srgbClr val="66cc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Dirty page 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607000"/>
            <a:ext cx="99072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5607000"/>
            <a:ext cx="106704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ransaction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607000"/>
            <a:ext cx="10666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heckpoint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48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5607000"/>
            <a:ext cx="99036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Update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523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095880" y="60638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4640" y="6292800"/>
            <a:ext cx="28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gin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6640" y="6292800"/>
            <a:ext cx="269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d of checkpoint ope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9EF07-98AE-477F-B9E3-102E4BDBBE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9:27:26Z</dcterms:created>
  <dc:creator>David A. Solomon, Mark E. Russinovich, and Andreas Polze</dc:creator>
  <dc:description/>
  <cp:keywords/>
  <dc:language>en-US</dc:language>
  <cp:lastModifiedBy>David Solomon</cp:lastModifiedBy>
  <dcterms:modified xsi:type="dcterms:W3CDTF">2006-02-06T18:56:58Z</dcterms:modified>
  <cp:revision>85</cp:revision>
  <dc:subject>Windows Operating Systems Internals Course</dc:subject>
  <dc:title>Unit OS 10: Fault-Tolerance</dc:title>
</cp:coreProperties>
</file>